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389-80EF-42AC-AA8A-3C1A1852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8EA-4546-4D61-950B-2475E2EB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A9F-E074-457F-8311-7F202E62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701-3264-4761-9530-CF1B91A9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6867-9571-43C3-AE49-C9651E12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336E-9CAB-4448-86A9-756E1605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58C7-6735-4130-ACEC-BE94D378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F520-D30D-40FC-A69C-AFF34F0A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CBCE-56C4-4E2C-93A2-5F68AD9B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5831-8BAB-44E3-B0D8-4F4A5A63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6FBB-F85C-4622-BF13-AA24DF6D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A0B-2042-4ACC-BFB7-F6F57F74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8CA7-FCF3-4F38-815F-FFF44112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F7CB-5295-4E6B-AEC2-7EC54798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4D91-8BE6-4F08-9006-94DFC7B2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0EB2-7BBB-4802-9810-C93CA74B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5319-E300-4A13-8734-D563AB95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DD2-455A-47DD-971D-0E58903C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FEF-6D77-4AA2-A1F4-E9FE9EF8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583-5729-4A19-B905-A48D5248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BC9-6502-4946-A07B-A85CAA7C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1D5-23B2-4482-85EF-EFB1026F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912-1F9C-4087-AEE1-9A8ACC72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A36-4D54-47B6-BEB5-44E81A7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6CA3-B770-4763-8BA4-D770CAE704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5FD8-ACC5-4B11-ADD9-B5E2B674BA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Genome reannotation: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733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latino"/>
              </a:rPr>
              <a:t>Dealing with the atypical, the ambiguous, and the contrary</a:t>
            </a:r>
            <a:endParaRPr b="0" lang="en-US" sz="4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mments for validation flag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usual spli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intr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verlaps transpos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conventional translation star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ultiphase ex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icistron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annot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ategorized as problematic/provision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d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 only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gene fragment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s capture of the ORF without condoning the gene mod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39116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transcrip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 transcrip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; distinguish between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relative to cDNA length (stops throughout; no long ORF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(previous case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138240"/>
            <a:ext cx="84582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Release 3.2 contributor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Kathy Campbel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ynn Crosb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everley Matthew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ndy Schroed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rian Bettencour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Yanmei Hu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yla Bayraktarogl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avel Hradeck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Gillian Millbur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ima Misr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hris Smi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leanor Whitfiel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eili Zh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inglei Zho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Annotated, but…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transcript classifi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be exclud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learly flagg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spect cDNA: possible unspliced intron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ranscript confidence ratings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ata typ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358720"/>
            <a:ext cx="784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NA data (complete/partial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homology/protein domain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lagg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 system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Yes/no indication for each different level of supporting data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lexible and open-end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an be dense and nuanc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Users can easily set different combinations of criteria for bulk data se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DNA and EST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structure support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TRs support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full-length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partial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overlaps cDNA(s) or EST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upporting protein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Homologous protei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High scoring of similar leng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ss simila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Indication of taxonomic range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plete protein domain(s) identifi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cont.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(s)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: [CV]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; possible gene fragmen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uncated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pseudogen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open -ended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xperimental determination of 5’ en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orther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RFeome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icroarray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 situ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ealing with the messy o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 provisional/problematic annota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inimize biases of current knowledg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exclude from rigorous data se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 and categorize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ld into a transcript rating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vidence tallying syste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Bottom li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nnotate generousl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riteria should not be too stringen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bel the ambiguous and atypic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efine a “problematic” categor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se a CV to describ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vise a confidence-rating system or an evidence tally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17360"/>
            <a:ext cx="838224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1T20:07:26Z</dcterms:created>
  <dc:creator>William M. Gelbart</dc:creator>
  <dc:description/>
  <dc:language>en-US</dc:language>
  <cp:lastModifiedBy>William M. Gelbart</cp:lastModifiedBy>
  <dcterms:modified xsi:type="dcterms:W3CDTF">1970-01-14T13:55:46Z</dcterms:modified>
  <cp:revision>13</cp:revision>
  <dc:subject/>
  <dc:title>Drosophila reannotation: Lessons learned</dc:title>
</cp:coreProperties>
</file>